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C5E-BCF1-490F-9FAF-73A2C8B4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B6E-0FA8-44F3-AECD-DE4FA3F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3D3-1052-44A5-8885-7D23804D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8DF-A943-447E-9065-0210E662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175-A065-4EB6-89C6-075A8D2B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BD3-8615-45CE-BD74-A37BDEA0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075-71C7-4680-A1E9-AB071341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8DE-C43F-417D-8EF0-342CA68C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DAE-CC0F-4949-B623-2EA17B5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E2A-1DEA-462A-A674-3E99196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CF9-B8DF-40A6-975B-F69E5354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F68-79EB-4043-B3A1-5016A4D4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DA9-7A8C-4D9D-9A5B-84D2A60D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askerville Old Face"/>
              </a:rPr>
              <a:t>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28004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Bernard MT Condensed"/>
              </a:rPr>
              <a:t>The Science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askerville Old Face"/>
              </a:rPr>
              <a:t>Yoga and play stimulate the secretion of dopamine and DHEA igniting joy (feel good hormones that improve m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askerville Old Face"/>
              </a:rPr>
              <a:t>Visualization slows brain waves, allowing the nervous system to recharge and integrate the activity between both brain hemispheres of the brain When done on a regular basis, Yoga Tools bring greater harmony and ease to the learning environment and process for teachers and students, by giving the mind-body system what it needs to perform more opti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nard MT Condensed"/>
              </a:rPr>
              <a:t>Four Yoga 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Baskerville Old Face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Y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askerville Old Face"/>
              </a:rPr>
              <a:t>Time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Baskerville Old Face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38098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Bernard MT Condensed"/>
              </a:rPr>
              <a:t>Breathing</a:t>
            </a:r>
            <a:r>
              <a:rPr b="0" lang="en-US" sz="4000" spc="-1" strike="noStrike">
                <a:solidFill>
                  <a:srgbClr val="ff00ff"/>
                </a:solidFill>
                <a:latin typeface="Bernard MT Condensed"/>
              </a:rPr>
              <a:t>-</a:t>
            </a:r>
            <a:r>
              <a:rPr b="0" lang="en-US" sz="2800" spc="-1" strike="noStrike">
                <a:solidFill>
                  <a:srgbClr val="ff00ff"/>
                </a:solidFill>
                <a:latin typeface="Bernard MT Condensed"/>
              </a:rPr>
              <a:t>”</a:t>
            </a:r>
            <a:r>
              <a:rPr b="0" lang="en-US" sz="2800" spc="-1" strike="noStrike">
                <a:solidFill>
                  <a:srgbClr val="ff00ff"/>
                </a:solidFill>
                <a:latin typeface="Lucida Calligraphy"/>
              </a:rPr>
              <a:t>Yoga and Breath are 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askerville Old Face"/>
              </a:rPr>
              <a:t>The ability to breathe fully and deeply builds strength, healthy, presence, calm and focus.  The more you fuel the brain and body with oxygen, the better it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askerville Old Face"/>
              </a:rPr>
              <a:t>Knowing how to use one’s breath to shift one’s mental and physical state is a valuable life skill that lays the foundation for personal health and respon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askerville Old Face"/>
              </a:rPr>
              <a:t>Conscious breathing brings us into balance and an awareness of ourselves, giving us the opportunity to slow down, center and make behavioral choices from a non-reactive, reflective, integrated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Bernard MT Condensed"/>
              </a:rPr>
              <a:t>Yoga-</a:t>
            </a:r>
            <a:r>
              <a:rPr b="0" lang="en-US" sz="3000" spc="-1" strike="noStrike">
                <a:solidFill>
                  <a:srgbClr val="9999ff"/>
                </a:solidFill>
                <a:latin typeface="Lucida Calligraphy"/>
              </a:rPr>
              <a:t>”</a:t>
            </a:r>
            <a:r>
              <a:rPr b="0" lang="en-US" sz="2800" spc="-1" strike="noStrike">
                <a:solidFill>
                  <a:srgbClr val="9999ff"/>
                </a:solidFill>
                <a:latin typeface="Lucida Calligraphy"/>
              </a:rPr>
              <a:t>Unity of Mind, Body and Breath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postures activate full body-mind coordination, waking up the whole brain and stimulating every system in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postures help develop: awareness, strength, flexibility, balance, coordination, and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postures are fun and non-compe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can be done almost anywhere, with no equipment, and even in your chai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nard MT Condensed"/>
              </a:rPr>
              <a:t>Time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refers to the time spent with an internal rather than an external foc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is the first step to awareness and conscious 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can be done sitting up, or lying down, in silence, listening to a visualization, or soothing music, or while just brea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relaxes the body; restores and balances the nervous system; connects one’s to one’s thoughts and feelings; develops awareness and non-reactivity; cultivates creativity and the use of inner resources; promotes harmony and commun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Brain waves automatically slow dow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Out can be replaced with Time-In as a way to support self-discipline and personal responsi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encourages kids to practice personal responsibility by giving them a chance to breathe, feel and release whatever feelings are bothering them.  Then, they can re-center, make an inner attitude adjustment and return to the class ready to particip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35880" y="304920"/>
            <a:ext cx="160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Bernard MT Condensed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Baskerville Old Face"/>
              </a:rPr>
              <a:t>Play-”Nature’s biological plan for learn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Baskerville Old Face"/>
              </a:rPr>
              <a:t>Games can be used as warm-ups, rewards, energizers, organizers or just plain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4244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Yoga Ed.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5064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Br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9966ff"/>
                          </a:solidFill>
                          <a:uFillTx/>
                          <a:latin typeface="Arial"/>
                        </a:rPr>
                        <a:t>G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ff"/>
                          </a:solidFill>
                          <a:uFillTx/>
                          <a:latin typeface="Arial"/>
                        </a:rPr>
                        <a:t>Y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800080"/>
                          </a:solidFill>
                          <a:uFillTx/>
                          <a:latin typeface="Arial"/>
                        </a:rPr>
                        <a:t>Time-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Mo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l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g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Appreci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Wake-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’m a Rainb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Special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Trans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u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Energy B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Eagle Wis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Yogi Be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Tran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nner Moun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nimal Fri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nner Ad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ternate Nost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M-B Res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Fly Like a Butterf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Stop the R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Create Affi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Watch Self on Tel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eph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Wash-T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Jam S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Pass the Sque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Circle of Fri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End of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Music Ima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Gra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Guiding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Calligraphy"/>
              </a:rPr>
              <a:t>Good Morning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Come Together, Be Alert, Energized, Grounded and Peac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adley Hand ITC"/>
              </a:rPr>
              <a:t>Brea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Balloon Br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Hissing (Snake Brea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adley Hand ITC"/>
              </a:rPr>
              <a:t>Tim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I’m a Rainb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pecial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adley Hand ITC"/>
              </a:rPr>
              <a:t>Games/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All Good Things(Positive inten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Receiving Love and L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Nature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ake Up Y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lown Pa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ter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Half Sun Sa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Rag D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rrior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ownward Facing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F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wisting Star/Windm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Folding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Transitio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elps to maximize the benefits of break times between subjects and minimize time spent settling back into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Brea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ear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Humming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im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Inner 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Animal 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Inner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nergy B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agle Wisdom 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ack to 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Yogi B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Y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own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Ragd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Half Sun Sa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rrior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xtended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Tes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Calligraphy"/>
              </a:rPr>
              <a:t>To feel centered is to experience one’s psychological center of gravity-a solid integration of mind and body.  Knowing how to feel centered is as important to young people as knowing how to read, write and brush the teeth.”  Dr. Gay Hendr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Sounding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Alternate Nostril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Tim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Create Your Own Affi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tching Yourself 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Muscle Test Experiment for Positive and Neg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ye Stre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rain Ma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Fly Like a Butter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rink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Stop the Rock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Yoga in Your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Head and Neck Stre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hair Tw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Forward B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Arching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am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Blown Pa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Puppy Dog holding back of Ch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rescent holding back of ch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tanding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tanding Pige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Lucida Calligraphy"/>
              </a:rPr>
              <a:t>“</a:t>
            </a:r>
            <a:r>
              <a:rPr b="0" lang="en-US" sz="4000" spc="-1" strike="noStrike">
                <a:solidFill>
                  <a:srgbClr val="9999ff"/>
                </a:solidFill>
                <a:latin typeface="Lucida Calligraphy"/>
              </a:rPr>
              <a:t>Yoga creates S P A C E between your FEELINGS and BEHAVIOR to make healthy choices.” </a:t>
            </a:r>
            <a:r>
              <a:rPr b="0" lang="en-US" sz="1800" spc="-1" strike="noStrike">
                <a:solidFill>
                  <a:srgbClr val="9999ff"/>
                </a:solidFill>
                <a:latin typeface="Lucida Calligraphy"/>
              </a:rPr>
              <a:t>Robin App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7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Completion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Yoga Tools to seal in your learning and leave in a balanced, healthy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Brea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Bunny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Elephant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im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Listening to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Awakening Gratitude to Has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Guiding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Ga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Washing Out-Tapping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Jazzy 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Pass the 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Yoga to End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Sitting Tw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ocking H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Hug Knees into Ch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Lying Tw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onstructive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Yoga at Your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ag D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Twisting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Fr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Moun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Standing Sh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War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Yoga 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Down D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Twisting Drag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ocking H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920" y="1600200"/>
            <a:ext cx="8305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zal Tov Teachers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are now Yoga Educated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Benefits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is non-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requires staying present, developing focus and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is practical, low-cost preventative medi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creates balance, integration, flexibility and qu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expands and enriches awareness and the experience of our inner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is not an intellectual process; it is experiential and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edical science identif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self-awareness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and the abilit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self-care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as two key factors in maintaining  a lifetime of health and well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Yoga 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askerville Old Face"/>
              </a:rPr>
              <a:t>intention</a:t>
            </a: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 of Yoga Tools for Teachers is to nourish, balance and support the </a:t>
            </a:r>
            <a:r>
              <a:rPr b="0" i="1" lang="en-US" sz="2600" spc="-1" strike="noStrike">
                <a:solidFill>
                  <a:srgbClr val="000000"/>
                </a:solidFill>
                <a:latin typeface="Baskerville Old Face"/>
              </a:rPr>
              <a:t>TEACHER</a:t>
            </a: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Baskerville Old Face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.  Although it seems to be taking time away from “getting things done,” it actually supports achieving one’s desired goals by releasing tension and stress that obstruct optimal lea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Yoga tools help transform the teacher’s inner state from:  chaos to calm, frustration to finesse, tired to energized, tense to relaxed, or distracted to focused in just a few minut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If the teacher is “being” calm, alert and focused, this elicits the same states in their students (“Positive Behavior Modeling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Yoga 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ll Yoga Tools are designed for the classroom, requires no extra equipment and take 5-1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Tools are proven behavior-and classroom-management techniques that enable the students to focus, concentrate and fully participate in the lear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Tools work best as a continuing practice, and part of the daily rou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Yoga Ed. Tools for Teachers Addresses the Challenges Teachers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Obesity rates at are at an all time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DD/ADHD diagnosis rates are increasing among y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ncreased rates of stress, decreasing attention spans, levels of concentration and social skills are becoming more proble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cademic achievement in public schools is at new l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ncidences of bullying and violence in schools are incre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Yoga Ed. Tools for Teachers Address the Challenges Children Fa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hildren are emotionally and physiologically stressed, over-stimulated and adversely affected by toxins in food, the environment and th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tress=Disease; it threatens our health, damages our bodies, and inhibits our ability to learn and grow.  Body movement and breath are the best antido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f interested in research supporting yoga’s impact on children and children with ADD/ADHD, please see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286000" cy="214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2438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Bernard MT Condensed"/>
              </a:rPr>
              <a:t>The Science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askerville Old Face"/>
              </a:rPr>
              <a:t>Scientific research on the neuro-physiology of yoga demonstrates that it is truly the “world’s oldest and most perfect form of exercise.” (Gessner Ge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askerville Old Face"/>
              </a:rPr>
              <a:t>Yoga has demonstrable efficacy in reducing stress, achieving emotional balance, developing focus and enhancing cog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askerville Old Face"/>
              </a:rPr>
              <a:t>Yoga improves cardiovascular, respiratory, musculoskeletal, endocrine and nervous system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468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nard MT Condensed"/>
              </a:rPr>
              <a:t>The Science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When the fight-or-flight response is activated the body produces adrenalin and cortisol which cause the heart rate to speed up, the breath to become shallow, the eye muscles to expand, a tightening of lower back and nec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Yoga Tools de-stress and bring the body-mind back to a safe, and open state where learning 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Yoga breathing and moving dissipates the physiological consequences of the stress response in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1:17:17Z</dcterms:created>
  <dc:creator>stillman shoshana</dc:creator>
  <dc:description/>
  <dc:language>en-US</dc:language>
  <cp:lastModifiedBy>Moriah</cp:lastModifiedBy>
  <dcterms:modified xsi:type="dcterms:W3CDTF">2008-11-20T16:03:49Z</dcterms:modified>
  <cp:revision>19</cp:revision>
  <dc:subject/>
  <dc:title>Yoga Ed.</dc:title>
</cp:coreProperties>
</file>